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2467-05FE-4928-B87B-C5FF99E22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060F-CC35-4B14-9C6E-4BD4D634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AD3D-B898-4341-837F-15F6F2B7B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7E25-F95A-4B40-85CC-5F428E53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C727-AE94-4FFC-B1AB-CAFAB08BE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5294-7DEA-47F6-90F5-9052854A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5F5C-1141-4ECF-AA85-D23B2D8A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4103-C4E2-4CF1-BE83-4D7ADFC8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12DA-281A-4CEA-97B1-F9498291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CEE7-C314-4CDF-BABA-1E2EA5A3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059B-8F0C-4F53-AC53-9D15C117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706F-5B03-4261-85EA-5D2F70F6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BF59-81E8-44BF-93FD-FFD11785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2C96-127D-42B7-9698-AC63FD10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E6EF-2ED4-4A99-8719-A49C2172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2DFB-2AB7-4B31-8853-768945E41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F7A0-026D-4410-B1BD-7B26B2F66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4730B0-AF95-4C26-A0AD-FEC5C8AD5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5D0E78-4BC0-417E-9766-1FFA773B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11A6C4-12AE-4B20-80FE-E8A57F61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CA64B2-BCBD-4A99-A471-2FB8DD6E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6E53F4-F43D-4E14-A5A3-00CDA556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6ECC-142A-406E-85B2-D3ED5466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68ECCF-DDC7-4521-986C-D6589394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5F816A-A1F7-478C-A7FB-E71E9697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90B88A-F5EC-4D22-9B59-9987749F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5B08CB-F511-42BE-96B4-08BD2BF8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9BD2AD-0A03-436D-A690-30C26363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6814D3-FFB0-4FA8-BF2F-893BE25B1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5EB133-F019-455A-B5CE-0B86866E2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1699EB-3AB8-4921-BA2A-B5EFE014E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48584E-1645-455E-8BCE-4AECA138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16CFB5-699B-401E-B5D3-392647A0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84CA-098D-4E65-8976-B61FB859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D4493F-CC3A-4692-BE48-7C1CDCAA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F3444F-3BAD-4950-BC73-3273486E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B0BB1E-9200-481E-A7DB-E51BDC06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3D3B87-BE88-40D6-A187-7F6EB6F5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1A4AF6-28A8-437F-8CF1-ED0E72A7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111B3E-EBE2-4250-98C7-C2968E5E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0E4C99-A0A4-4634-9A1E-D94D6B2C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BB1606-2537-4D38-8CD5-66E3993A2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387CB4-B5F6-459B-BB58-4FCC8EC40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62D46C-2765-443C-9841-4223F72FB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357A-D995-4E8C-BDDE-859D9229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461244-99DF-4F7A-8C89-BF54ED58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99563C-C608-4130-BCBE-8845DDD5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C62049-9596-48D8-8F67-9C4F6B65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74D56E-FB27-4316-B5B5-03FB9819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E2705C-7B5A-46D9-98F0-4815A86B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254F73-B9B4-4C85-B61B-425DC82F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3C05A1-0E10-4B50-ABEE-C14EED61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C9A5DC-D3BE-4658-BDB5-878B55D4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1682F1-1570-4CCA-8488-1AE4E617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1B2B5C-A606-4965-BA31-D85B4703D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1D71-6C5A-46BF-B7AA-830B1DB2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A845B8-A84C-4E0A-A8D2-3B0A707C9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81C96-865A-4D5A-9699-56112349C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28D4C-6D85-494C-8138-0EDC25F4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5BB17-C882-4E69-B513-EBFA5573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48005-C3E9-4D4C-8FEF-B9E362DF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74417-5097-4B84-B872-2417FAA2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F675C-1698-4164-87F8-DC6CE860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7B33F-9455-4AA3-95A7-15033212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F82D6-E299-40FA-A6AC-50E27191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A3D45-8349-4B7E-A8B7-5E303A8F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4F35-2F37-4B56-8F8E-23E45A54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F1198-54FC-43E2-AB4E-8F2EEB46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78596-55DE-485E-B84B-CB13C751B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68E8E-1977-47C6-963D-55D053E56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41A641-62DE-4FD6-935C-E0CD3416D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B8C738-CF8E-4F4B-B485-761ABC17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AFBF40-5AB0-4A87-8EF3-CAF3670C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F7C8EC-971F-4485-8023-616CB5D7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30E68E-A8B8-4320-B5B4-EB8AF0A1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E7D414-9F61-445D-8808-6FF8DC21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036E2B-856C-4FE6-9D63-5CA9A3DB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4686-AAEA-4238-8ED2-53DECFF1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54A076-18B7-45F8-865B-CA37A72A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CCFBEC-6FE5-44B6-B703-D979AFB3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B0BEAF-33D6-440C-AE51-ACA14113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EA5F9D-6515-49EE-A551-C68572366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E2198D-C1D3-44E3-83DA-1DCFA78D0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7AB68-B095-45A0-A101-46B8E6529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82A40-5329-4826-93EB-830157D2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680A3-3096-4CB0-9C37-5924E663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0D5C5-C5C6-49F6-8A6B-ED99F3AD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43528-8DE3-4349-B1A2-2C87154A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0CE2-DE47-420F-9B69-DB40BE2F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F3172-46F9-4613-91F4-6C759E35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F8F3E-DD2E-47B2-8266-FB30580B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D025E-20A0-4B02-BE31-10F544B5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EEDD2-D595-4C8C-AAA3-0850F4C5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42EF6-5DB1-40FC-897C-43880AAD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167A1-428C-4A63-BD3E-DC1A90741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BD796-6429-418E-9E04-3615D974E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A9CD-EC5C-4685-A7EA-E387825D3195}" type="slidenum">
              <a:rPr b="1" lang="en-AU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39d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A5B7-6E6F-47CA-8A35-C4949A668A7A}" type="slidenum">
              <a:rPr b="1" lang="en-AU" sz="1400" spc="-1" strike="noStrike">
                <a:solidFill>
                  <a:srgbClr val="fff39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6BAE-D381-4242-A372-742A2EA61A4B}" type="slidenum">
              <a:rPr b="1" lang="en-AU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97B8-DF15-4F0A-831C-721016F5C857}" type="slidenum">
              <a:rPr b="1" lang="en-AU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70EB-CEA0-45C8-9B3B-FD4B84130AED}" type="slidenum">
              <a:rPr b="1" lang="en-AU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912D-4CA8-44AC-91DB-43A8AB373D5B}" type="slidenum">
              <a:rPr b="1" lang="en-AU" sz="1400" spc="-1" strike="noStrike">
                <a:solidFill>
                  <a:srgbClr val="575f6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69A8-6540-4771-8F36-D8CA87B2BB2C}" type="slidenum">
              <a:rPr b="1" lang="en-AU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2855-A572-4074-ABDA-E02E2150E440}" type="slidenum">
              <a:rPr b="1" lang="en-AU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blogs.digitalmediaonlineinc.com/TechUniverse/resource/apple-logo1.jpg&amp;imgrefurl=http://blogs.digitalmediaonlineinc.com/TechUniverse/entry/200811043&amp;usg=__FDMjp7274VP8_9YpPAOHmZXIxGs=&amp;h=480&amp;w=397&amp;sz=22&amp;hl=en&amp;start=1&amp;tbnid=HhYIr-Oz_5sLkM:&amp;tbnh=129&amp;tbnw=107&amp;prev=/images%3Fq%3Dapple%26gbv%3D2%26hl%3Den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.au/imgres?imgurl=http://www.orchard-square.co.uk/imagery/news/uploads/Body_Shop_Logo_Sml.JPG&amp;imgrefurl=http://www.orchard-square.co.uk/newsdetails.asp%3Fid%3D167&amp;usg=__jx4THo-HZ29jfLBTRyXw-Orgh0w=&amp;h=194&amp;w=194&amp;sz=11&amp;hl=en&amp;start=9&amp;tbnid=xkxDxkJlwW4HgM:&amp;tbnh=103&amp;tbnw=103&amp;prev=/images%3Fq%3Dbody%2Bshop%2Blogo%26gbv%3D2%26hl%3Den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eblogs.newsday.com/news/local/longisland/politics/blog/dollars.gif&amp;imgrefurl=http://weblogs.newsday.com/news/local/longisland/politics/blog/suffolk/&amp;usg=__KFZS77psMlrOYRShuqYJJ6IWg3M=&amp;h=458&amp;w=428&amp;sz=14&amp;hl=en&amp;start=2&amp;tbnid=5IoVWEKb4TdTfM:&amp;tbnh=128&amp;tbnw=120&amp;prev=/images%3Fq%3Ddollars%26gbv%3D2%26hl%3De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internetservices.readingeagle.com/blog/fashion/salvation-army-logo.jpg&amp;imgrefurl=http://internetservices.readingeagle.com/blog/fashion/in_the_community/&amp;usg=__QQVhD7vQoNH-ZCxeWgyTFgSXSqM=&amp;h=292&amp;w=250&amp;sz=78&amp;hl=en&amp;start=2&amp;tbnid=No1suXTM96TYXM:&amp;tbnh=115&amp;tbnw=98&amp;prev=/images%3Fq%3Dsalvation%2Barmy%2Blogo%26gbv%3D2%26hl%3Den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.au/imgres?imgurl=http://www.asecondopinion.com.au/images/logos/CBA_Logo.jpg&amp;imgrefurl=http://www.asecondopinion.com.au/credentials.php&amp;usg=__hnSJiGmIWKgBNdCAL4Ps_Xu_drw=&amp;h=1036&amp;w=1452&amp;sz=73&amp;hl=en&amp;start=1&amp;tbnid=daLy7r08Ny4MXM:&amp;tbnh=107&amp;tbnw=150&amp;prev=/images%3Fq%3Dcommonwealth%2Bbank%2Blogo%26gbv%3D2%26hl%3Den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oma.on.ca/membership/resources/BHPBilliton%2520Logo.jpg&amp;imgrefurl=http://www.oma.on.ca/membership/membershiplist.asp&amp;usg=__IGb9wEsg3k8XTglXILn0xAjHQDA=&amp;h=275&amp;w=438&amp;sz=14&amp;hl=en&amp;start=1&amp;tbnid=glsZikxZ_OsqYM:&amp;tbnh=80&amp;tbnw=127&amp;prev=/images%3Fq%3Dbhp%2Bbilliton%2Blogo%26gbv%3D2%26hl%3Den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642680" y="2071800"/>
            <a:ext cx="5429160" cy="19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fff39d"/>
                </a:solidFill>
                <a:latin typeface="Tw Cen MT"/>
              </a:rPr>
              <a:t>LARGE SCALE ORGANISATIONS</a:t>
            </a:r>
            <a:endParaRPr b="0" lang="en-US" sz="5400" spc="-1" strike="noStrike">
              <a:solidFill>
                <a:srgbClr val="fff39d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w Cen MT"/>
              </a:rPr>
              <a:t>Chapter 1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2" name="Picture 5" descr="http://tbn0.google.com/images?q=tbn:HhYIr-Oz_5sLkM:http://blogs.digitalmediaonlineinc.com/TechUniverse/resource/apple-logo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72200" y="142920"/>
            <a:ext cx="1643040" cy="19810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7" descr="http://tbn3.google.com/images?q=tbn:xkxDxkJlwW4HgM:http://www.orchard-square.co.uk/imagery/news/uploads/Body_Shop_Logo_Sml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4200" y="4357800"/>
            <a:ext cx="150048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 u="sng">
                <a:solidFill>
                  <a:srgbClr val="575f6d"/>
                </a:solidFill>
                <a:uFillTx/>
                <a:latin typeface="Tw Cen MT"/>
              </a:rPr>
              <a:t>Negative Effects of LSOs</a:t>
            </a:r>
            <a:br>
              <a:rPr sz="4400"/>
            </a:b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24000" y="1413000"/>
            <a:ext cx="8640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67840" indent="-26784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Heartless, self-seeking organisations (too big and don’t care or too big to manage themselves effectively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7840" indent="-26784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Best employees/managers taken from Australia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7840" indent="-26784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Take jobs off-shore creating unemployment in Austral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7840" indent="-26784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Profits generated in Australia leave the countr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7840" indent="-26784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Create Balance of Payments problems for Austral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7840" indent="-26784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Australia exposed to the impact of overseas problem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7840" indent="-26784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Monopolies “killing small business” and ripping-off consum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7840" indent="-26784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7840" indent="-26784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Operating environments of LSOs</a:t>
            </a:r>
            <a:br>
              <a:rPr sz="4400"/>
            </a:b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00"/>
                </a:solidFill>
                <a:uFillTx/>
                <a:latin typeface="Tw Cen MT"/>
              </a:rPr>
              <a:t>Internal </a:t>
            </a:r>
            <a:r>
              <a:rPr b="0" lang="en-AU" sz="3200" spc="-1" strike="noStrike">
                <a:solidFill>
                  <a:srgbClr val="000000"/>
                </a:solidFill>
                <a:latin typeface="Tw Cen MT"/>
              </a:rPr>
              <a:t>– People, resources, processes, culture, policy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00"/>
                </a:solidFill>
                <a:uFillTx/>
                <a:latin typeface="Tw Cen MT"/>
              </a:rPr>
              <a:t>Operating</a:t>
            </a:r>
            <a:r>
              <a:rPr b="0" lang="en-AU" sz="3200" spc="-1" strike="noStrike">
                <a:solidFill>
                  <a:srgbClr val="000000"/>
                </a:solidFill>
                <a:latin typeface="Tw Cen MT"/>
              </a:rPr>
              <a:t> – Customers, suppliers, employees, competitors, creditors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00"/>
                </a:solidFill>
                <a:uFillTx/>
                <a:latin typeface="Tw Cen MT"/>
              </a:rPr>
              <a:t>Macro</a:t>
            </a:r>
            <a:r>
              <a:rPr b="0" lang="en-AU" sz="3200" spc="-1" strike="noStrike">
                <a:solidFill>
                  <a:srgbClr val="000000"/>
                </a:solidFill>
                <a:latin typeface="Tw Cen MT"/>
              </a:rPr>
              <a:t> – Economic, social, technological, political, environmental, Legal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1" lang="en-AU" sz="2900" spc="-1" strike="noStrike">
                <a:solidFill>
                  <a:srgbClr val="000000"/>
                </a:solidFill>
                <a:latin typeface="Tw Cen MT"/>
              </a:rPr>
              <a:t>Apply each of these environments to a LSO of your choic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Stakeholders in LSO’s 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A person or group with an interest or stake in how a business operates. Includ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Employe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Un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Sharehold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Own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Manag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customers, et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Measuring organisational performance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Efficiency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 : the best use of resources (time, money, labour) of an organisation to achieve organisational objectiv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Productivity: 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a quantitative measure of the relationship between resource inputs and outputs; a way to measure efficiency of the business. (More output for the same level of resources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Effectiveness: 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the extent to which the organisation chooses appropriate objectives and achieves these objectiv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 </a:t>
            </a:r>
            <a:br>
              <a:rPr sz="4400"/>
            </a:b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KPIs</a:t>
            </a:r>
            <a:br>
              <a:rPr sz="4400"/>
            </a:b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Specific criteria used to measure effectiveness and efficiency. Can be qualitative or quantitative.  Can be financial and non-financia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Financial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Profi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Return on Investment (shareholders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Cost Contro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Return on asse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KPIs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Non-Financial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Customer satisfac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staff turnov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safety recor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training recor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qualit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How could each of these be measured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 u="sng">
                <a:solidFill>
                  <a:srgbClr val="575f6d"/>
                </a:solidFill>
                <a:uFillTx/>
                <a:latin typeface="Tw Cen MT"/>
              </a:rPr>
              <a:t>Characteristics of LSOs</a:t>
            </a:r>
            <a:br>
              <a:rPr sz="4400"/>
            </a:b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w Cen MT"/>
              </a:rPr>
              <a:t>Number of employees &gt;200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w Cen MT"/>
              </a:rPr>
              <a:t>Total Assets &gt;$200 million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w Cen MT"/>
              </a:rPr>
              <a:t>Annual Sales Revenue – in the million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w Cen MT"/>
              </a:rPr>
              <a:t>Extent of operations – transnational (but can be interstate only)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6" name="Picture 5" descr="http://tbn1.google.com/images?q=tbn:5IoVWEKb4TdTfM:http://weblogs.newsday.com/news/local/longisland/politics/blog/dollar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4437000"/>
            <a:ext cx="16430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 u="sng">
                <a:solidFill>
                  <a:srgbClr val="575f6d"/>
                </a:solidFill>
                <a:uFillTx/>
                <a:latin typeface="Tw Cen MT"/>
              </a:rPr>
              <a:t>Types of LSOs</a:t>
            </a:r>
            <a:br>
              <a:rPr sz="4400"/>
            </a:b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Corporations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 – can have private shareholders or be listed on the stock exchang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Govt. Business Enterprises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 – Owned by Govt and sometimes shareholders to provide a service but also make a profit eg. Aust Post, Medica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Govt Depts 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– provide service, no profit eg. Taxation office, Centrelink, Defen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Charities/Foundations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 – provide assistance to those in need. Eg Salvo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9" name="Picture 5" descr="http://tbn0.google.com/images?q=tbn:No1suXTM96TYXM:http://internetservices.readingeagle.com/blog/fashion/salvation-army-log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240" y="5429160"/>
            <a:ext cx="933480" cy="10954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7" descr="http://tbn2.google.com/images?q=tbn:daLy7r08Ny4MXM:http://www.asecondopinion.com.au/images/logos/CBA_Logo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00840" y="0"/>
            <a:ext cx="142884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Types of LSO’s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w Cen MT"/>
              </a:rPr>
              <a:t>Can you think of some more examples  for each of these classifications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w Cen MT"/>
              </a:rPr>
              <a:t>Corporation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55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Tw Cen MT"/>
              </a:rPr>
              <a:t>Public Companie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55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Tw Cen MT"/>
              </a:rPr>
              <a:t>Private Companie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w Cen MT"/>
              </a:rPr>
              <a:t>GBE’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w Cen MT"/>
              </a:rPr>
              <a:t>Govt Dept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w Cen MT"/>
              </a:rPr>
              <a:t>Charities/Foundation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 u="sng">
                <a:solidFill>
                  <a:srgbClr val="575f6d"/>
                </a:solidFill>
                <a:uFillTx/>
                <a:latin typeface="Tw Cen MT"/>
              </a:rPr>
              <a:t>Classifications of LSOs</a:t>
            </a:r>
            <a:br>
              <a:rPr sz="4400"/>
            </a:b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73960" indent="-273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00"/>
                </a:solidFill>
                <a:uFillTx/>
                <a:latin typeface="Tw Cen MT"/>
              </a:rPr>
              <a:t>Primary</a:t>
            </a:r>
            <a:r>
              <a:rPr b="0" lang="en-AU" sz="3200" spc="-1" strike="noStrike">
                <a:solidFill>
                  <a:srgbClr val="000000"/>
                </a:solidFill>
                <a:latin typeface="Tw Cen MT"/>
              </a:rPr>
              <a:t> – draw directly from natur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00"/>
                </a:solidFill>
                <a:uFillTx/>
                <a:latin typeface="Tw Cen MT"/>
              </a:rPr>
              <a:t>Secondary</a:t>
            </a:r>
            <a:r>
              <a:rPr b="0" lang="en-AU" sz="3200" spc="-1" strike="noStrike">
                <a:solidFill>
                  <a:srgbClr val="000000"/>
                </a:solidFill>
                <a:latin typeface="Tw Cen MT"/>
              </a:rPr>
              <a:t> – transform raw materials into goods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00"/>
                </a:solidFill>
                <a:uFillTx/>
                <a:latin typeface="Tw Cen MT"/>
              </a:rPr>
              <a:t>Tertiary</a:t>
            </a:r>
            <a:r>
              <a:rPr b="0" lang="en-AU" sz="3200" spc="-1" strike="noStrike">
                <a:solidFill>
                  <a:srgbClr val="000000"/>
                </a:solidFill>
                <a:latin typeface="Tw Cen MT"/>
              </a:rPr>
              <a:t> – sell the goods, provide  a service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00"/>
                </a:solidFill>
                <a:uFillTx/>
                <a:latin typeface="Tw Cen MT"/>
              </a:rPr>
              <a:t>Quaternary</a:t>
            </a:r>
            <a:r>
              <a:rPr b="0" lang="en-AU" sz="3200" spc="-1" strike="noStrike">
                <a:solidFill>
                  <a:srgbClr val="000000"/>
                </a:solidFill>
                <a:latin typeface="Tw Cen MT"/>
              </a:rPr>
              <a:t> – provision of information eg. Newspapers, banks, education, postal service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00"/>
                </a:solidFill>
                <a:uFillTx/>
                <a:latin typeface="Tw Cen MT"/>
              </a:rPr>
              <a:t>Quinary</a:t>
            </a:r>
            <a:r>
              <a:rPr b="0" lang="en-AU" sz="3200" spc="-1" strike="noStrike">
                <a:solidFill>
                  <a:srgbClr val="000000"/>
                </a:solidFill>
                <a:latin typeface="Tw Cen MT"/>
              </a:rPr>
              <a:t> – provision of paid and voluntary domestic services. Eg. Hotels, child care, restaurants etc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5" name="Picture 5" descr="http://tbn1.google.com/images?q=tbn:glsZikxZ_OsqYM:http://www.oma.on.ca/membership/resources/BHPBilliton%2520Log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6720" y="214200"/>
            <a:ext cx="164304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 u="sng">
                <a:solidFill>
                  <a:srgbClr val="575f6d"/>
                </a:solidFill>
                <a:uFillTx/>
                <a:latin typeface="Tw Cen MT"/>
              </a:rPr>
              <a:t>Classifications of LSOs</a:t>
            </a:r>
            <a:br>
              <a:rPr sz="4400"/>
            </a:b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Can you think of some further examples for the following industri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w Cen MT"/>
              </a:rPr>
              <a:t>Primary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w Cen MT"/>
              </a:rPr>
              <a:t>Secondary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w Cen MT"/>
              </a:rPr>
              <a:t>Tertiary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w Cen MT"/>
              </a:rPr>
              <a:t>Quaternary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w Cen MT"/>
              </a:rPr>
              <a:t>Quinary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Management functions in LSO’s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Manager’s job is to plan and co-ordinate resources and activities of an organisation to ensure that it achieves the goals and objectives defined by the board of director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Four main economic resourc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Land/physical resources: equipment, raw materia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Labour/Human resourc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Capital/Financial resourc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Knowledge/information resourc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Management functions in LSO’s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Management function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99960" indent="-39996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Operations management (Production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99960" indent="-39996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HR management (Personnel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99960" indent="-39996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Financial management and admi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99960" indent="-39996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Marketing/sales manage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99960" indent="-39996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Research &amp; Develop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99960" indent="-39996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Information technolog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99960" indent="-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99960" indent="-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2" name="Picture 2" descr="http://tbn2.google.com/images?q=tbn:PIhCwqIwuAhlcM:http://bp2.blogger.com/_96Cakrk8REc/R1AhCF9kn4I/AAAAAAAAAeE/28NKqVP8YzE/s1600-R/david_brent.jpg"/>
          <p:cNvPicPr/>
          <p:nvPr/>
        </p:nvPicPr>
        <p:blipFill>
          <a:blip r:embed="rId1"/>
          <a:stretch/>
        </p:blipFill>
        <p:spPr>
          <a:xfrm>
            <a:off x="6443640" y="3500280"/>
            <a:ext cx="227952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 u="sng">
                <a:solidFill>
                  <a:srgbClr val="575f6d"/>
                </a:solidFill>
                <a:uFillTx/>
                <a:latin typeface="Tw Cen MT"/>
              </a:rPr>
              <a:t>Economic Contribution of LSOs</a:t>
            </a:r>
            <a:br>
              <a:rPr sz="4400"/>
            </a:b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24000" y="1413000"/>
            <a:ext cx="8820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Provision of employment and income for Australia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Economies of scale –incur lower costs per unit of output because they are big. Government benefits/concess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Invest in and improve Australia’s industrial base – factories, machinery, et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R&amp;D – innovation, new products, best practi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Export Earnings – bringing in $$ from oversea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Support the community and the disadvantag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5" name="Picture 5" descr="http://tbn1.google.com/images?q=tbn:zi1xg0DROnTECM:http://www.clima.org.cn/UserFiles/Image/bottling%2520production%2520line.bmp"/>
          <p:cNvPicPr/>
          <p:nvPr/>
        </p:nvPicPr>
        <p:blipFill>
          <a:blip r:embed="rId1"/>
          <a:stretch/>
        </p:blipFill>
        <p:spPr>
          <a:xfrm>
            <a:off x="6588000" y="5445000"/>
            <a:ext cx="221472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02:56:38Z</dcterms:created>
  <dc:creator>lda</dc:creator>
  <dc:description/>
  <dc:language>en-US</dc:language>
  <cp:lastModifiedBy>Ern Reichelt</cp:lastModifiedBy>
  <dcterms:modified xsi:type="dcterms:W3CDTF">2011-02-11T04:53:15Z</dcterms:modified>
  <cp:revision>22</cp:revision>
  <dc:subject/>
  <dc:title>Operations management</dc:title>
</cp:coreProperties>
</file>